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FEA-0DB4-4E6A-87FC-0B41EEEC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777-5AA4-46C2-BCFC-6391239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BE7D-AF4F-44A2-A99F-2187B4E2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06D6E-9B38-4BBE-A87A-FDA4FE1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34F9D-77E4-49F2-BF1A-4806C703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270F-B15C-4002-A62F-5020C9B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17CD-E0DE-4356-8853-5C34EDD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4AD05-90A0-4FFC-9390-58832FE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28F5-BFB6-4F38-82C9-D416DB18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43D5-6C12-4E63-918E-1D08D0CA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EB167-CA93-4FE1-AE73-0871D6A9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895F1-7106-4D98-B81A-2A50C7E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AC1-2B76-4C2A-BF17-EE88A092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511C6-CF99-4176-8279-40CB056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0D2E-A1F1-4705-8423-4FDCF8FD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C1BF2-690A-4654-A98E-A46B3D3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1F96C-A1E3-4A23-9ED5-E0C1F297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4DB08-D476-45D7-80CA-54B7F2E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74FDA-9E6A-4002-944E-7499AEB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BB2B7-C025-4F7E-AA75-1EBCEAF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8EDA6-3C48-4071-88C1-F9C66BC0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F5C21-8549-4AF4-A6E2-9B6AA44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D616D-7BCE-4133-A6B0-D69FB9EF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A25-25D6-4682-955F-3945A03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2F609-EBBE-449A-9B8F-0C0FFF5D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C978F-E0AA-4ECD-BDD8-FEED5ACF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0810-A611-4F52-A6A2-129EB4BF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F511-1447-42BF-BA7E-81A2A528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13C5-66DC-4754-99FA-E987551A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D43C5-A75A-42CB-B790-3C408273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540EE-34EB-4643-A9A5-96EF3972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56C30-DDA2-46BD-A5A0-CC185F5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3862-E588-44A9-BE9C-E4AF68A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3FD64-B480-4679-B000-3F5EDBF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4236-2BCD-4032-BAB0-327BABC1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4779E-7472-4EBE-9B41-8CEC3C1B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23F79-904B-41C7-8485-366C6FF6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ECC7-039A-465A-A00D-2E25E917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735B-8057-4064-BFE4-9258D427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F8581-0E9A-4EA0-94B1-E81F360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81EA-7321-47A1-8A0A-9AA17C4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61B39-D8D2-40C4-987D-0DBC090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8E3DB-7C34-40C2-9C12-6FD04698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6259D-B368-4258-9C37-DCE993E7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B4120-D6DE-4C67-AD73-8F505A2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B986-DC61-4238-8D80-39EBBB4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CD1B4-384E-4EF0-A6DE-EB99C01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F899C-DC9C-485D-ABBE-12FC697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7DE47-2FBE-4351-88DE-5EA1C76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88741-2C94-4E00-8E7D-A7095076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FF052-6C39-4FC3-A765-DF31796E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4E2EB-06CF-42CA-9FA6-DA39AD27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8F474-4756-41EC-B04D-83FD6BB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1B784-139D-4312-A98F-56CC477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6D4A-C310-4A7D-845A-162A4C0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A3922-F5F3-4458-9534-A0A367C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AC8A-C405-49B1-86A6-C6AD4C3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6D96B-8A5F-487A-82E5-7124366B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46B13-28F9-4947-95E7-0E38012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DACFA-5C96-45AC-A278-D7898DA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DF7ED-20AF-45CC-BA2D-874434C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D58E8-13B3-4A4A-9D2C-AE7F51D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93D7C-4FAF-43C7-8A64-60F1B6E6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FFC20-2DDF-46FE-A883-66F3E27E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36EA0-3E9A-4FE4-A881-8BAD2FBA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3AB03-6042-40C4-ADFF-9553017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C0C5B-E715-41C4-8CAF-3450555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0B9-6671-4BED-B632-9A278B9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0593D-8129-4439-9C1F-86AD7A2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D712B-6749-463E-BF49-E32C9F27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5841A-7F16-48E9-A49C-3545BE2D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B864D-1B58-451B-9F16-5C3BF7D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6D923-15D3-4E9C-B1D0-B261B2F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3118B-8ACE-49E3-93C2-AF3FF02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4668E-FF4B-48C2-85FB-7FB63CB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21BD7-598F-4E91-B2D4-E3D44E06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F1684-ECF1-49E9-8B2C-A4295AE8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58B92-BCF0-4491-B829-2FFB7815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7D18-6109-41C3-B7AB-CC92CB1E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F3AE0-65C2-4B27-AFB0-F6C5E59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09613-A58D-46BE-AA13-C7D4AF98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FFAAD-D5DB-4F8D-976F-64F12491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718E8-46BD-49CD-BDE7-25153EEC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5B74E-581C-48D2-954B-E23D8AE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3B3D6-493D-49E8-8178-18DA0D9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D4885-C938-45DE-8AE4-DE8ECE9C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8539D-2B07-42C8-8A08-43FA0E3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86BDF-83B0-4C32-9D96-C7B86027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53996-BB70-4F70-A4D9-3A674963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CA8-12E0-4AEB-861A-D4380D3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30735-192D-435C-AEA4-C1CB8DE3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F58FE-865C-4158-8ADF-2CDEA33A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DD165-801E-41D0-B113-1982441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E3562-DC21-4124-8F93-CF66444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1B403-8934-4A3C-9D77-8CD514FE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14A62-84A6-40ED-8192-C8ABA75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C8320-32CC-4A2A-BE28-58E8FFC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919EE-22E7-4926-A9DB-2FCA924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61DC3-98DE-469D-A6E6-67673A1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BDA68-1FE5-4B22-ADDD-EF5C3BB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DF83-EB0F-4FB7-819F-8C4DD1F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652B4-4B4F-49F4-BDB2-221BD6B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E405D-F611-470A-A3CC-80C21F5C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446BA-4792-47E2-AD00-BAE3656B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4BBF7-2802-448C-9400-A2D8536B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A1C74-6032-4AF0-A0DE-DE3B1183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A0E63-5CE1-4289-8DCF-1DD71BCF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308C4-96E2-4B83-938E-7F754FFB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C4169-1DF6-4FA3-85CA-CEA0CF1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E5C5B-C83D-4D62-8E25-AA25A1F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8040C-D03C-4D40-9AE8-D158CC8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0E3-12ED-42F0-A012-2CA99C3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404-453B-4E49-84DF-E51AF88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37034-BF05-4414-8B20-31F3E15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BE62E-7575-4649-8D1C-0D1490E0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61ABF-C794-4800-A82F-33CDF49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B1C7B-608F-4533-9C6D-92C3F0CF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75E0A-C41B-49DB-A770-0CD30B5A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E5567-23D0-4D76-BFE2-640EFDC3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1C5B3-7CCE-4807-9277-C3C22D59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216B9-F585-4772-902C-A2F775C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E5BD0-3AE5-4816-9B93-B5006F0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710A8-57F3-456F-B5E6-2918632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CCD7-4365-455C-B864-103DD11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70C82-5BFD-45CB-B333-BCEDE636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B8518-6A5F-4D76-8BE4-7B5859A1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ED464-0177-403A-B886-4E19390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DEA0E-567F-4A50-A77F-06E9BDC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86CAB-8D1D-4E29-B68E-60FA7C6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D5CC3-C8C3-4942-8F27-CD8F61C7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39459-BC4C-41C6-8286-43DF9C14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42A11-5E5C-4929-A46B-31B6954A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AE61B-D007-49D9-AC3E-ADD2047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64DAF-BBB6-4DD8-BCDA-9F42E700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CFE-7410-4DEA-9A9C-A6A07CC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6948A-1677-4A2F-9B5F-E999484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B212C-BF3E-40D9-92B5-0F16450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4EE0C-7374-4C72-914D-A92EA43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D2A9A-3B04-49FC-B9DD-9A6B890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6D386-A89E-410F-8A04-0F82F41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930DB-AE81-4FCD-AAF8-51829BD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A0CD0-71E3-4816-982B-978C30E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9254D-5DE5-4ACA-8D2E-91AFBD3F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0EA95-CFB5-4287-A2AD-BE8E908A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AB2F4-2FDA-4DB0-AC1A-8C935DC9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278-6805-47A2-B9F0-942C64A8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FCDCF-D632-41C4-A42F-4828473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CEF443-6912-47A8-A200-2490EA0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B6DD9-F035-4591-9CA0-7AE9344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6CACC-8E2A-4083-B8C5-C80405D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760F9-5698-4980-9472-1F6FB74C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53F0A-9D68-4352-BCD6-199C07D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65779-2C28-4BD9-8E22-2357963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3BA42-EBCF-46A2-A707-9390A37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0D55F2-3F50-4A1D-8C5A-23BD983C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34C61-FF21-4ED9-8390-361D6F14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88BB-8AF9-47BC-9AEF-8538D660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5077E-5FA1-4619-8084-285BE6CA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1D3DC-3A63-4062-AD33-B058765D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C1F58-E0F9-475D-89BC-FEFFA74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FFF44-ED57-4C7B-8762-33FB4094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BAB27-835D-4B59-8988-5B1E736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A41C4-0EDB-4927-BBB1-19C0856E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0983E-4266-4483-8B38-C44BA54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8DBB3-1959-465B-BC18-846493A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60C30-6AA4-46B8-BD06-D459105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5DA80-458A-4539-B32B-445B14D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75C4-368A-435F-A860-3F3DF4BB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923B1-3C43-46A7-80B8-6349B69C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062FE-55B0-44A2-8871-7A4552F5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393A9-543C-494B-ACAA-DBBE61F9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EAA5-0A30-4E43-AB40-7DB0EF9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98A1-E50B-4050-AD05-3ABA7F12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A6DD-C757-48FD-9F5E-2BE4D0F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0466-E4C1-4C25-890B-369F81E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505-5CC5-4F1C-AF25-51351C4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1DE2-A1FB-4CE0-A7F5-22128523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6BAE-1AB6-417F-BEF4-B95D2BE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2E4C-82ED-4800-B9FB-4F1A4C2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2258-86F6-4AE7-8CF4-8215A3E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9150-0252-4F57-8A18-9D2EB3CB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F257-BE55-4CC0-93CB-A57EDC48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A942-2789-4172-BA73-7719CAF3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4B1C-A61A-4635-8A31-AAE020E0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2315-93A8-4A9E-91EB-545E424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D3359-ED1A-4C49-A3D0-A407EF0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A4F-BC52-4C02-9617-0CBB723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05AA-DD1D-482A-AFAC-1E98E33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E875-7C1D-4BAE-B422-0FA2ACE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BB7B-1A17-4735-8EB4-F0760AB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30AE-92C3-4D60-B790-06498AC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E438-7C7D-411F-9EBA-6A9849CF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C554-D09A-41D4-A5EB-B97A00E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FD62-FA4E-44A2-A73F-8C1B463E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1BD3-EEC7-463D-9DF3-62A61AA6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63046-CF29-4488-90F6-93F156C3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A7E7-4929-4D74-968F-D819806C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561-1226-4D65-BBD7-E8C685CB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304F-D550-4BE1-A2D0-264D66E3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507F-E529-4CC7-9599-1D2A553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18D1-92B2-4AB6-B46B-2619E62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F7D2-24DC-4CE1-9C6D-45EE7F3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5F162-6D61-4CC6-9400-E85D6F4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8623-4314-4205-9FEA-DA06468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62EE-B762-4637-9BFA-4C5606C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2D7E-10EE-4F53-BAD8-F6D8C7A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908E6-AE28-470B-BF04-3E01D74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1747-FCEB-4763-99D5-8B084518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DB-A450-41D6-BCE7-60FE032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B531-2682-4836-AD9B-09BA10C1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A5F16-C8D0-44F5-9B8D-8A2EF76E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DC76-21F4-4802-BBD8-81C85AC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2E95-0C58-42AE-A489-7E4C2505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79E78-89A1-4363-99D3-7DA7E63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B4B5-DBD8-4DDC-BFAC-D09759CC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55D3-2CB7-4F2C-B574-28E3079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A717-AD3C-4F38-A3F1-25996D4F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9CF2-CAF7-460C-89FC-27E4190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0135-BA3E-43DB-9C3B-9F907FC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A29-CFD9-40F6-9B69-F0F62A2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5528-3312-467B-8537-FB481B9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D154-1C5C-4DD8-AF8B-BE90CA86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486A-2CF2-48A1-8D49-AFCE60E7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F823-F4CE-4DF4-B468-4458404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9669-5BAD-47FC-97DF-38373C0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1DE5-900D-4DC5-B552-C40E74DC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FB12-5E5C-4F99-80A0-D218233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44228-D8DF-47CF-B685-2714CAC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30C0-1B4F-4CC0-8F2C-68F3F06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5701-0009-4EB0-B621-80A6258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959-AE6D-419D-B969-16AC533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79B7-A5DF-4A77-9D0B-36511DB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9050-DD5B-4AE7-BE2F-6595312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ABC3-693A-4530-90B1-91E0663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5E6E-405F-4B71-BB8E-15A88C91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CE692-D9B9-42FF-BE51-4E89A09C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A702C-2337-4F01-934E-91B46625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883D-27D3-42B3-BFFA-CACC942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84C0-DE8A-46C3-B3E2-18F6A69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5CF7-8B5D-4DD8-9EE0-D68E3EE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07AA-5E22-44F3-83CE-53334900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073-C250-4268-8189-E18792F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BC0DF-0446-4E66-AF6E-BEFC6B9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8C24B-F352-4EC3-A0F9-6F86E5A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DBF9E-91DE-4886-824F-473356B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623D-A821-46B1-8639-1466547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3DB53-D90A-419D-91D1-CD99090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6802-5013-44CB-B2D0-1636C7EE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B7C2-AAC6-47C4-8651-2508CD41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2C31-9F87-40DC-B148-DE152E7E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61DC2-19C1-4B45-9246-913D71D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AB923-4428-42DE-9709-9171726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7819-AE03-49E8-9BF2-C6B4D0D5C5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F618-BFCB-4CA0-AB3F-3972806F1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D8B-6F28-4A9C-A2D0-ADEE08987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5C8-12B3-4544-80E4-E910A3128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A792-9BD1-4CBC-A089-7906DBFED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09D-B8E0-4796-9668-9353D510E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7534-C381-423F-8F21-D51AD0CCC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E1EF-99A3-40DB-BE95-AC67E53386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67A-00A8-4396-8784-3D9B95130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D366-976B-40CD-99A5-A9D23277C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744-5D67-4726-8C7B-3A0381CE8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6F6-BA74-4E12-B8E4-CE41D9908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90C-4B85-4240-9A15-BA0E1D74B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4BB3-04B5-429F-A930-1E6D5694F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D74B-1B50-430D-8FB7-434CF2963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C78-87C9-4341-B7A7-649CA5DA2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59CF-9AB2-4369-BE10-5C168014A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EDE-600A-457A-9090-27BB8F8D9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4D88-3896-46BA-8F27-9AD9F6768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D95-983D-4124-ACF5-09E5FD2AB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55D-65E5-4738-9EC3-987E7E75C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249F-6CDA-4642-9E24-C5953B058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BC1C-F4D5-4F24-A33C-0E6CBA085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9E54-1E24-4019-8D5A-DA869958E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4ED-6CE6-48DD-8DE4-6A4E640F7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119-687F-4392-A717-21AF0362F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DAA1-F30B-488D-9882-B3765D8B4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3616-88D7-4C23-95EB-7D6C7FF9E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CD2-C16F-4BC1-B250-AC9DAD5E8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48E6-BCD6-4B82-9AF3-1B6A5D674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2F2F-27FD-4C8B-9554-FCD0EA24D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BA6-5EF0-4387-A939-F66600E92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B895-9566-45EA-AFE4-0512D9A941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0091-E748-497F-BEE6-BAC74884B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039-FB67-4E22-9F8B-D36A986B8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F21A-D1AE-4DBB-BB6D-CDEF9ED5B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EBD-0596-4199-A028-04EEA6F30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C3CA-C579-4791-AA1E-E39009199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01D-D5B2-47FE-9DD2-2E4447BAB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A20-EE76-44DE-A212-BFE5B7F291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57280" y="3038400"/>
            <a:ext cx="80294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9633" descr=""/>
          <p:cNvPicPr/>
          <p:nvPr/>
        </p:nvPicPr>
        <p:blipFill>
          <a:blip r:embed="rId1"/>
          <a:stretch/>
        </p:blipFill>
        <p:spPr>
          <a:xfrm>
            <a:off x="1247760" y="1490760"/>
            <a:ext cx="6648480" cy="3876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1116000" y="220500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1187280" y="278136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1187280" y="342900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561672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332000" y="4724280"/>
            <a:ext cx="669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68609" descr=""/>
          <p:cNvPicPr/>
          <p:nvPr/>
        </p:nvPicPr>
        <p:blipFill>
          <a:blip r:embed="rId1"/>
          <a:stretch/>
        </p:blipFill>
        <p:spPr>
          <a:xfrm>
            <a:off x="733320" y="1197000"/>
            <a:ext cx="7677360" cy="217152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8610" descr=""/>
          <p:cNvPicPr/>
          <p:nvPr/>
        </p:nvPicPr>
        <p:blipFill>
          <a:blip r:embed="rId2"/>
          <a:stretch/>
        </p:blipFill>
        <p:spPr>
          <a:xfrm>
            <a:off x="243000" y="3583080"/>
            <a:ext cx="8658000" cy="2438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183200" y="1773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4255920" y="236376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7308720" y="1773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323120" y="234936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1835280" y="4869000"/>
            <a:ext cx="965160" cy="4330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965520" cy="4334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4932360" y="4869000"/>
            <a:ext cx="965160" cy="4330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028000" y="4292640"/>
            <a:ext cx="965160" cy="433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013600" y="4913280"/>
            <a:ext cx="9651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71520" y="847800"/>
            <a:ext cx="8400960" cy="5676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20318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20178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59280" y="3673440"/>
            <a:ext cx="50292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21520" y="370188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087720" y="5345280"/>
            <a:ext cx="503280" cy="433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107120" y="5345280"/>
            <a:ext cx="50328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539640" y="665280"/>
            <a:ext cx="7944120" cy="6076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676520" y="175752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348000" y="18162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124000" y="285264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435640" y="175752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7107120" y="181620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5883120" y="2852640"/>
            <a:ext cx="1857600" cy="1081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676520" y="4479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3348000" y="453852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2124000" y="557532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1"/>
          <a:stretch/>
        </p:blipFill>
        <p:spPr>
          <a:xfrm>
            <a:off x="5435640" y="4479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2"/>
          <a:stretch/>
        </p:blipFill>
        <p:spPr>
          <a:xfrm>
            <a:off x="7107120" y="453852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3"/>
          <a:stretch/>
        </p:blipFill>
        <p:spPr>
          <a:xfrm>
            <a:off x="5883120" y="5575320"/>
            <a:ext cx="1857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347760" y="1414440"/>
            <a:ext cx="8448480" cy="4029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474920" y="31417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407200" y="31417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632640" y="2349360"/>
            <a:ext cx="21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619200" y="1938240"/>
            <a:ext cx="7905600" cy="2981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116000" y="276552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341440" y="1973160"/>
            <a:ext cx="2160720" cy="4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062680" y="2781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288120" y="1989000"/>
            <a:ext cx="21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743040" y="1895400"/>
            <a:ext cx="7657920" cy="3067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258920" y="27687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2484360" y="2048040"/>
            <a:ext cx="2160720" cy="433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5205240" y="2766960"/>
            <a:ext cx="2737080" cy="230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431040" y="2058840"/>
            <a:ext cx="21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824040" y="781200"/>
            <a:ext cx="7495920" cy="529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413080" y="267984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2989440" y="170028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6443640" y="270828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7020000" y="172872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2340000" y="501336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2916360" y="4033800"/>
            <a:ext cx="1077840" cy="433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516720" y="5013360"/>
            <a:ext cx="1798560" cy="12254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7093080" y="4033800"/>
            <a:ext cx="10778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4276" descr=""/>
          <p:cNvPicPr/>
          <p:nvPr/>
        </p:nvPicPr>
        <p:blipFill>
          <a:blip r:embed="rId1"/>
          <a:stretch/>
        </p:blipFill>
        <p:spPr>
          <a:xfrm>
            <a:off x="957240" y="2281320"/>
            <a:ext cx="7229520" cy="2295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935280" cy="4330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241880" y="3471840"/>
            <a:ext cx="474480" cy="4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5219640" y="394812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2231" descr=""/>
          <p:cNvPicPr/>
          <p:nvPr/>
        </p:nvPicPr>
        <p:blipFill>
          <a:blip r:embed="rId1"/>
          <a:stretch/>
        </p:blipFill>
        <p:spPr>
          <a:xfrm>
            <a:off x="142920" y="773280"/>
            <a:ext cx="88581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4:1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